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8E1-0225-4CCE-B45B-15A83AA9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AE3-BEF4-42B1-8D64-6EB80445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085-59C5-43B2-A81A-2C607BF1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882-F9C5-43E9-AA5E-B30789E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54D-E2F1-44FE-8E59-B4A5BD3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3B5-9FD5-4A0C-AB0C-4B6A88BB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00F-7944-47A1-8243-EBA2F72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285-A7F3-4925-8941-3137B9C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757-6BB8-42AF-9029-55B252A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781-C084-4579-9A91-0192409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F73-DDE9-4279-84CA-6AA5559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CD5-90F0-41A5-ADBA-03DD6057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6DF-7F30-4F84-90CB-78AA4683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057400"/>
            <a:ext cx="7086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LE SĂLBATICE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N ALTE ŢĂRI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66840"/>
            <a:ext cx="8534520" cy="611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05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8360"/>
            <a:ext cx="8076960" cy="646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8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9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95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26T11:10:1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